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5F1-83E0-43A2-A772-8CD51742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319-09FB-4861-935C-5B4D0A47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243-0002-4BDF-B6CB-D65CCD69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1A6-1100-445A-9F46-EFF7E9D0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163-AA37-486B-9339-B49A83E4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091-EA48-46B1-A7AD-20F8233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B3B-A496-426F-8721-9F30492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951-200B-4A9C-9CBF-A3A639C7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8A4-1420-49CD-B7E4-D43ACB89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910-0442-494E-AA59-FA560B7F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AF8-1116-4882-8EDA-ECF9436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931-6C51-41D1-B0A2-E263DC7D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5809-919A-452E-B26B-0971900C1B6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54:18Z</dcterms:created>
  <dc:creator>Grupo Editorial</dc:creator>
  <dc:description/>
  <dc:language>en-US</dc:language>
  <cp:lastModifiedBy>TORRES</cp:lastModifiedBy>
  <dcterms:modified xsi:type="dcterms:W3CDTF">2010-12-19T08:12:35Z</dcterms:modified>
  <cp:revision>2</cp:revision>
  <dc:subject/>
  <dc:title>Sin título de diapositiva</dc:title>
</cp:coreProperties>
</file>